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9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5.png" ContentType="image/png"/>
  <Override PartName="/ppt/media/image43.jpeg" ContentType="image/jpeg"/>
  <Override PartName="/ppt/media/image39.png" ContentType="image/png"/>
  <Override PartName="/ppt/media/image41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902-FBCF-49ED-B89E-292720B8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AE4A-7887-4669-B36D-EDC820A2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0F4F-2F8B-4483-80B9-33E85B6D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BB1-F3A1-47DB-BC57-880F5936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695-C9A0-4F30-A846-67BC0633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1DF-4194-47A3-81E8-74DF6BF9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9E4-CCE6-4447-B694-C6CACD70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AB2-CC61-479F-BA3C-725CC000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DD03-9AAC-4BED-B55D-2D87A37A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E85-87D3-4497-96BE-534724BC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3826-2080-4D86-A68B-69D803A8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E1A8-F57E-4D1E-A0A0-0C233494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856F-4B01-4498-BD14-EA8AE65A2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11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1720800"/>
            <a:ext cx="74170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Centaur"/>
              </a:rPr>
              <a:t>Мы на одной земле жив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86064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узыкально – краеведческая гости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4132440" cy="4896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826920" y="476280"/>
            <a:ext cx="7561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русские</a:t>
            </a:r>
            <a:endParaRPr b="1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191628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Заселяют пермские земли по Каме и Чусовой с конца </a:t>
            </a:r>
            <a:r>
              <a:rPr b="1" i="1" lang="en-US" sz="2800" spc="-1" strike="noStrike">
                <a:solidFill>
                  <a:srgbClr val="006600"/>
                </a:solidFill>
                <a:latin typeface="Centaur"/>
              </a:rPr>
              <a:t>XV</a:t>
            </a: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 середине </a:t>
            </a:r>
            <a:r>
              <a:rPr b="1" i="1" lang="en-US" sz="2800" spc="-1" strike="noStrike">
                <a:solidFill>
                  <a:srgbClr val="006600"/>
                </a:solidFill>
                <a:latin typeface="Centaur"/>
              </a:rPr>
              <a:t>XVII</a:t>
            </a: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ека русские в Прикамье – численно преобладающий на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59640" cy="492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59440" y="5337000"/>
            <a:ext cx="502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Русская   пляс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22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22720" y="5818320"/>
            <a:ext cx="43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Русский   хоро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286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51280" y="1197000"/>
            <a:ext cx="4932360" cy="3699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769280" y="49680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родные промыслы рус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20860800">
            <a:off x="323640" y="292392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радиции русски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97440" cy="439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33440" y="155268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Народ ценит красоту своего края и называет зелёным золо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5942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5942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Т а т а р 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первые татары появились среди монгольских племен в 6-9 веках, кочевавших к юго-востоку от Байк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 13 веке, в связи с татаро-монгольском нашествием, название «татары» стало известно в Европе. В 14 веке оно распространилось на некоторые народы Евразии, входившие в Золотую Орду. В 16 – 19 веках в русских источниках татарами называют тюркоязычные народы, жившие на окраинах Русского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198520" cy="3097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1952640" cy="3243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564000" y="404640"/>
            <a:ext cx="46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татары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7" name=""/>
          <p:cNvSpPr/>
          <p:nvPr/>
        </p:nvSpPr>
        <p:spPr>
          <a:xfrm>
            <a:off x="5919840" y="2728800"/>
            <a:ext cx="26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1628640"/>
            <a:ext cx="3692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Компактно проживают в бассейне рек Тулвы, Сылвы и Ирени. В </a:t>
            </a:r>
            <a:r>
              <a:rPr b="1" lang="en-US" sz="2400" spc="-1" strike="noStrike">
                <a:solidFill>
                  <a:srgbClr val="006600"/>
                </a:solidFill>
                <a:latin typeface="Californian FB"/>
              </a:rPr>
              <a:t>XVI – XVII</a:t>
            </a: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 вв. в Прикамье переселяются казанские татары. Издавно заняли земли, удобные для земледелия и животно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Все селения достаточно крупные, живут зажиточно, очень чистопл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4248360" cy="212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4248360" cy="337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39640" y="5373720"/>
            <a:ext cx="4248360" cy="1030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003640" y="333360"/>
            <a:ext cx="357372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entaur"/>
              </a:rPr>
              <a:t>сабантуй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entaur"/>
              <a:ea typeface="Centaur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1557360"/>
            <a:ext cx="38894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entaur"/>
              </a:rPr>
              <a:t>Самым ярким и красочным у татар был и остается  праздник Сабанту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entaur"/>
              </a:rPr>
              <a:t>Скачки на лошадях, состязания борцов на полотенцах в национальной борьбе куреш, выступления творческих коллективов, сменяя друг друга, продолжаются весь д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1292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7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ермский край – единый кр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ню рождения Пермского кр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свящае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250920" y="333360"/>
            <a:ext cx="7200360" cy="5295960"/>
            <a:chOff x="250920" y="333360"/>
            <a:chExt cx="7200360" cy="529596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250920" y="2133720"/>
              <a:ext cx="2374560" cy="34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 txBox="1"/>
            <p:nvPr/>
          </p:nvSpPr>
          <p:spPr>
            <a:xfrm>
              <a:off x="1547640" y="333360"/>
              <a:ext cx="489564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Коми - пермяки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35280" y="1630440"/>
              <a:ext cx="3816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93080" y="1268280"/>
            <a:ext cx="1771560" cy="2735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012000" y="4508640"/>
            <a:ext cx="2842920" cy="2104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771640" y="1844640"/>
            <a:ext cx="4176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Коренные жители Прикам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Сформировались из племен, издавна проживающих по верхней Каме. Предки их назывались пермяками, пермичами, пермянами. В состав Русского государства вошли в 1472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464000" cy="4779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124000" y="26028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692280"/>
            <a:ext cx="7272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entaur"/>
              </a:rPr>
              <a:t>БАШКИ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entaur"/>
              <a:ea typeface="Centaur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1865160"/>
            <a:ext cx="3889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редки их пришли из области Булгарской. Большая часть современных башкирских сел и деревень имеют богатую, насчитывающую несколько столетий, истор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В 2007 году исполняется 450 лет со дня добровольного вхождения народов Башкирии в соста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27640" y="3141720"/>
            <a:ext cx="2051280" cy="3022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2102040" cy="309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851280" y="3645000"/>
            <a:ext cx="1765440" cy="2949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979640" y="54936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дмурты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023840" y="1628640"/>
            <a:ext cx="722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 южные районы Прикамья начали заселяться с конца </a:t>
            </a:r>
            <a:r>
              <a:rPr b="1" lang="en-US" sz="2000" spc="-1" strike="noStrike">
                <a:solidFill>
                  <a:srgbClr val="006600"/>
                </a:solidFill>
                <a:latin typeface="Centaur"/>
              </a:rPr>
              <a:t>XVI</a:t>
            </a: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. из Камского – Вятского междуреч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До сих пор в семейной обрядности удмуртов сохранилось немало представлений о злых и добрых духах и потустороннем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У д м у р т 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дмурты – это крупнейший финно-угорский народ России. Впервые упоминание о них относится к 14 веку. Тогда они назывались ары, аряне, отяки, вотяки. Именно вотяками их и называли до 1932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 настоящее время они проживают в основном на территории Удмуртии, Кировской области, Пермского края, республике Марий Э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4076640"/>
            <a:ext cx="3960720" cy="2513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372360" y="1700280"/>
            <a:ext cx="2280960" cy="3422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268360" y="189000"/>
            <a:ext cx="49690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рийц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125360"/>
            <a:ext cx="5276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Их предки пришли в конце </a:t>
            </a:r>
            <a:r>
              <a:rPr b="1" lang="en-US" sz="2000" spc="-1" strike="noStrike">
                <a:solidFill>
                  <a:srgbClr val="006600"/>
                </a:solidFill>
                <a:latin typeface="Centaur"/>
              </a:rPr>
              <a:t>XVI – XVII</a:t>
            </a: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в. Из Среднего Поволжья из среды луговых марий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 наше время многие элементы культуры марийцев сохранились в неприкоснове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Марийцы – единственный народ на Урале, сохранивший свой народный костюм и язык в первозда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5280" y="549360"/>
            <a:ext cx="8497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Мы разные, но живем в одной стране и одном кра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Нам нечего дели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Нужно лишь объединить усилия, чтобы все ценное в нашей истории сохранилось и приумножилось: и язык, и традиции, и культ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1089000"/>
            <a:ext cx="835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Знаю и люб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Люблю и зна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Чем больше знаю, тем больше люб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 "/>
          <p:cNvPicPr/>
          <p:nvPr/>
        </p:nvPicPr>
        <p:blipFill>
          <a:blip r:embed="rId1"/>
          <a:stretch/>
        </p:blipFill>
        <p:spPr>
          <a:xfrm>
            <a:off x="5435640" y="3860640"/>
            <a:ext cx="2806560" cy="1898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4235400" cy="5904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3275280" cy="3646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19640" y="589752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entury Schoolbook"/>
              </a:rPr>
              <a:t>Карта, герб и флаг Пермск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480" y="3429000"/>
            <a:ext cx="848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Centaur"/>
              </a:rPr>
              <a:t>Пермский кра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087640" cy="201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35280" y="1413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00720" y="141300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2108160" cy="2237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443640" y="3933720"/>
            <a:ext cx="2089080" cy="223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3708360" y="3933720"/>
            <a:ext cx="2016000" cy="223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63600" y="333360"/>
            <a:ext cx="83120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"/>
              </a:rPr>
              <a:t>Народы ,издавно населяющие наш край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2001 году население Пермской области составляло 2.980.000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реди ни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х 2.380.000 человек или 8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тар 180 тысяч человек или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и-пермяков 150 тысяч человек   или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шкир 50 тысяч человек или 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раинцев 45 тысяч человек или 1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дмуртов 35 тысяч человек или 1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из справочника «Пермская область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621320" cy="6021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08000" y="6021360"/>
            <a:ext cx="4608720" cy="709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1582920" cy="1474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859280" y="3500280"/>
            <a:ext cx="1467000" cy="1584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627280" y="538200"/>
            <a:ext cx="1460520" cy="1361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556000" y="3716280"/>
            <a:ext cx="1604880" cy="149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2916360" y="551664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5364000" y="5157720"/>
            <a:ext cx="1366920" cy="1490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19840" y="538200"/>
            <a:ext cx="23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entury Schoolbook"/>
              </a:rPr>
              <a:t>Расселение народов Прика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4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2002 году по результатам переписи в Пермской области проживало 2.819.421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реди тех, кому 16 лет и старш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х 1.923.017 человек или 6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тар 115.771 человек или 4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и-пермяков 86.456 человек или 3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шкир 32.984 человека или 1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дмуртов 14.846 человек или 0,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-252360" y="0"/>
          <a:ext cx="9396360" cy="633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0"/>
                    <a:ext cx="93963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Р у с с к и 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9975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оисходят из восточных славян, первоначально назывались родиями, россами, русами, до начала ХХ  века в научной литературе употреблялся термин великороссы или великорусы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Русские состоят из крупных этнических групп, которые различаются по наречиям языка, особенностям жилища, одежды, обрядов и т.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04:43:08Z</dcterms:created>
  <dc:creator>Елена Викторовна</dc:creator>
  <dc:description/>
  <dc:language>en-US</dc:language>
  <cp:lastModifiedBy>надежда</cp:lastModifiedBy>
  <dcterms:modified xsi:type="dcterms:W3CDTF">2009-08-07T18:01:42Z</dcterms:modified>
  <cp:revision>17</cp:revision>
  <dc:subject/>
  <dc:title>Слайд 1</dc:title>
</cp:coreProperties>
</file>