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3.jpeg" ContentType="image/jpeg"/>
  <Override PartName="/ppt/media/image2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7.gif" ContentType="image/gif"/>
  <Override PartName="/ppt/media/image2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4FA0-1B7C-4D0A-9F83-1FB13F939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A43E-8101-4CEC-B3CD-4A889A58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1F1-4765-46A7-A59F-B4D95D47F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DA1F-68B7-4053-872F-FF851C3F2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59ADC7-AE5D-48B0-83C9-37DBD813E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D1806-AB3F-4328-A85E-489C1C3B3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CCD72-2C47-45F0-B5F8-0CF3A604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0AEB8F-A516-48DC-9B28-36024E7B3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68B31D-C100-42AF-B41E-9FD81497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457789-9804-4863-BB0A-157084CD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3A977-37FA-4E56-BBBF-09F038BF5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8BFE-F55D-499B-B009-7AAA0B8D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22826-D337-423C-BDB7-E371A926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7631F-F489-403A-9C5D-5251CF18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CD6BEB-3193-4E2C-95AD-D3902C43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C31FD6-A667-4095-9900-E0708C3A1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34DF21-446A-4CEE-B6A7-BE72808D8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582C6-4F1E-47D3-803F-C57EEA8EB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C859-6C26-4C88-AA31-7DE54328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60CB-F9C3-4E6D-A4A8-B159A7EA6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282-24F4-4B67-A0EA-551C591C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FE4-88BD-465F-8A76-5CCEB0DF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261E-E12D-46A6-92F5-4E88F009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3794-1BEB-4C05-A006-8B8B3BCA9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05D5-D563-4D22-BE5D-39030DD2F199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92DA8-B5B7-4638-A967-E379791973FB}" type="slidenum">
              <a:rPr b="0" lang="en-US" sz="2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Внутренний слайд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 repeatCount="1000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-28440"/>
            <a:ext cx="9144000" cy="69148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02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ерый камень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3816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ерый камень – уникальный памятник уральской природы. Здесь, как в предгорьях Кавказа, каждую весну распускаются голубые ромашки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Водопад  Плакун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48000" y="1599840"/>
            <a:ext cx="3816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Легенды рассказывают историю о несчастной девушке, насильно разлученной с любимым. Две струи Плакуна – это слезы, текущие из глаз бедной девушки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Петропавловская  церк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51280" y="1341000"/>
            <a:ext cx="3492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 этой церкви         находится икона         Божьей Матери         Неопалимая         Купина. Ее хранили и берегли 300лет. Она  про-  славляется 11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юля крестным         ходом.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Легенда об озере Лесно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219280" y="1599840"/>
            <a:ext cx="3745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03120" y="4098960"/>
            <a:ext cx="8301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transition advTm="8000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124000" y="620640"/>
            <a:ext cx="4824360" cy="518472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38160">
            <a:solidFill>
              <a:srgbClr val="333399"/>
            </a:solidFill>
            <a:miter/>
          </a:ln>
        </p:spPr>
      </p:pic>
    </p:spTree>
  </p:cSld>
  <p:transition advTm="8000">
    <p:circl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675640" cy="583416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260280"/>
            <a:ext cx="6048720" cy="6193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3708360" y="2421000"/>
            <a:ext cx="2087640" cy="1800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</p:spTree>
  </p:cSld>
  <p:transition advTm="8000"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0T04:28:42Z</dcterms:created>
  <dc:creator>1</dc:creator>
  <dc:description/>
  <cp:keywords/>
  <dc:language>en-US</dc:language>
  <cp:lastModifiedBy>надежда</cp:lastModifiedBy>
  <dcterms:modified xsi:type="dcterms:W3CDTF">2009-08-07T18:01:15Z</dcterms:modified>
  <cp:revision>10</cp:revision>
  <dc:subject/>
  <dc:title>Слайд застав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