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7.gif" ContentType="image/gif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F0D1-78EB-4323-9FCF-B2CE5FA2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CFE3-465C-4603-BAA5-35D8464B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6FAA-917C-45DC-9687-151C6BDB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1440-718D-48C6-AD49-55EC20D0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39D45-8A58-41E9-965A-A18B4762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447A8-E59F-4F02-8B57-3859E463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F986A-818D-461E-B1CF-0FD29065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9EAE6-9ADC-4787-A4E2-853F3C74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64240-753F-4116-8D5D-29326E9B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C43C7-52DB-406F-ACE6-95269136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3C58B-2E58-408E-8B0D-23A3312D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67F0-3BAB-45B4-B9FA-3BDD5B64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8D7BA-913C-47E1-99AB-522FE81D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4B76B-1A00-49EE-85F1-D6D911D6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07473-6562-4620-B3A7-49DDDDF8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6CBC5-5322-4BB7-BDA9-0BDF0B92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C0A78-CEB5-4D0B-AC73-4DEA69FC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A66B-F6F4-407E-A466-E3571EF5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831D-67A0-4A85-8C3D-D93056E11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49B8-7E24-4EE2-939C-E6F496C7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29F9-D673-4B20-90C2-8B0F0939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1717-F4A8-49E6-B60E-289BE99D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3C5A-BF6F-4C81-B4AA-5F015504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9472-054C-46B2-AD10-EBE1F337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8FF6-C750-429F-9668-C414C547B625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D014-F7DB-430C-AC4F-0C58873547E8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нутренний слай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ерый камен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рый камень – уникальный памятник уральской природы. Здесь, как в предгорьях Кавказа, каждую весну распускаются голубые ромашки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Водопад  Плаку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48000" y="159984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генды рассказывают историю о несчастной девушке, насильно разлученной с любимым. Две струи Плакуна – это слезы, текущие из глаз бедной девушки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тропавловская  церков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51280" y="1341000"/>
            <a:ext cx="349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этой церкви         находится икона         Божьей Матери         Неопалимая         Купина. Ее хранили и берегли 300лет. Она  про-  славляется 11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юля крестным         ходом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Легенда об озере Лесно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19280" y="1599840"/>
            <a:ext cx="3745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3120" y="4098960"/>
            <a:ext cx="830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advTm="8000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124000" y="620640"/>
            <a:ext cx="4824360" cy="518472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p:transition advTm="8000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675640" cy="583416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547640" y="260280"/>
            <a:ext cx="6048720" cy="619308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708360" y="2421000"/>
            <a:ext cx="2087640" cy="1800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04:28:42Z</dcterms:created>
  <dc:creator>1</dc:creator>
  <dc:description/>
  <cp:keywords/>
  <dc:language>en-US</dc:language>
  <cp:lastModifiedBy>надежда</cp:lastModifiedBy>
  <dcterms:modified xsi:type="dcterms:W3CDTF">2009-08-07T18:01:15Z</dcterms:modified>
  <cp:revision>10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