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7.gif" ContentType="image/gif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A3E8-58BE-4FED-A70B-869656A7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029-F571-466B-8132-E70CA89F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C23E-2A4D-490A-A0C2-274AE538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74A-68C5-433F-9FEE-C91CE88F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815DB-76F3-4D3B-A91B-74E454AE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FF6E3-559C-447D-ADC3-CB058688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B1037-4E09-4FD8-B59C-47E6AC5D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ECE46-3A6E-4FB1-BAA9-A69CD8BE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AC7D9-499F-4BBC-849B-E147B561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3A61E-C5A5-4BB4-9B79-8970DC31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09897-2671-4BF6-8813-B9503022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830-CA95-445E-8446-07F03706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8681E-5526-4BE2-9FB5-8B7129B7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EF86C-2E40-4109-AF2A-38FAFE08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0E50E-79E5-4BD3-81DD-68315F4A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0B87E-0B33-45BA-8684-32BF592A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712AA-197F-4620-B6E8-F7A94449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E5C-6F81-4459-881B-604FA45D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465-C291-4321-A7BF-2228D0B7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F280-E4D1-4D5C-A56C-43702631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6C61-BE86-4559-A256-D5D384D2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AB5-F02E-433B-BECB-62683F98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9860-7AA8-435E-816B-F8C696C2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348-691A-4F17-B7C5-7B2A944A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D48F-7632-4EE7-914D-36E01CE8E5D8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E34E-ADCC-4842-9D19-EB4876FCF161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нутренний слай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ерый каме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рый камень – уникальный памятник уральской природы. Здесь, как в предгорьях Кавказа, каждую весну распускаются голубые ромашки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Водопад  Плаку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8000" y="159984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генды рассказывают историю о несчастной девушке, насильно разлученной с любимым. Две струи Плакуна – это слезы, текущие из глаз бедной девушки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тропавловская  церков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51280" y="1341000"/>
            <a:ext cx="349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этой церкви         находится икона         Божьей Матери         Неопалимая         Купина. Ее хранили и берегли 300лет. Она  про-  славляется 11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юля крестным         ходом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егенда об озере Лесн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19280" y="1599840"/>
            <a:ext cx="374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3120" y="4098960"/>
            <a:ext cx="830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advTm="8000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24000" y="620640"/>
            <a:ext cx="4824360" cy="518472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ransition advTm="800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675640" cy="583416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47640" y="260280"/>
            <a:ext cx="6048720" cy="61930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2087640" cy="1800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4:28:42Z</dcterms:created>
  <dc:creator>1</dc:creator>
  <dc:description/>
  <cp:keywords/>
  <dc:language>en-US</dc:language>
  <cp:lastModifiedBy>надежда</cp:lastModifiedBy>
  <dcterms:modified xsi:type="dcterms:W3CDTF">2009-08-07T18:01:15Z</dcterms:modified>
  <cp:revision>10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