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wmf" ContentType="image/x-wmf"/>
  <Override PartName="/ppt/media/image9.jpeg" ContentType="image/jpeg"/>
  <Override PartName="/ppt/media/image11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31.jpeg" ContentType="image/jpeg"/>
  <Override PartName="/ppt/media/image4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5.png" ContentType="image/png"/>
  <Override PartName="/ppt/media/image43.jpeg" ContentType="image/jpeg"/>
  <Override PartName="/ppt/media/image39.png" ContentType="image/png"/>
  <Override PartName="/ppt/media/image41.jpeg" ContentType="image/jpeg"/>
  <Override PartName="/ppt/media/image7.jpeg" ContentType="image/jpeg"/>
  <Override PartName="/ppt/media/image38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E579-9D9F-488B-9B15-80977847D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402F-4852-4BF9-B095-F7353471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E1B6-62A7-42AE-8211-2AA3BE945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01D4-1830-4595-A977-47C478D3D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E5F3-B7BA-430A-978C-49439020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09FB-C732-4FCA-A744-5F729DDE5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1FFF-4ABF-4C39-8C3F-1A3D2C71A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789-C8A1-4305-860F-8695DDE1B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4A97-D451-4974-94CE-908A42D42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5A194-36A2-45E0-86A1-A0E73D48A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31B8-35AC-47C8-A718-EF73982C3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F1F3-C23B-4BE3-858F-DE4EDF16F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9284-939C-437E-8A34-4E67641D9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png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11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900000" y="1720800"/>
            <a:ext cx="741708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Centaur"/>
              </a:rPr>
              <a:t>Мы на одной земле живе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860640"/>
            <a:ext cx="619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зыкально – краеведческая гости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4132440" cy="4896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826920" y="476280"/>
            <a:ext cx="756144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Century Schoolbook"/>
              </a:rPr>
              <a:t>русские</a:t>
            </a:r>
            <a:endParaRPr b="1" lang="en-US" sz="72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Century Schoolbook"/>
              <a:ea typeface="Century Schoolbook"/>
            </a:endParaRPr>
          </a:p>
        </p:txBody>
      </p:sp>
      <p:sp>
        <p:nvSpPr>
          <p:cNvPr id="78" name=""/>
          <p:cNvSpPr/>
          <p:nvPr/>
        </p:nvSpPr>
        <p:spPr>
          <a:xfrm>
            <a:off x="5076720" y="1916280"/>
            <a:ext cx="38163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Заселяют пермские земли по Каме и Чусовой с конца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 середине </a:t>
            </a:r>
            <a:r>
              <a:rPr b="1" i="1" lang="en-US" sz="2800" spc="-1" strike="noStrike">
                <a:solidFill>
                  <a:srgbClr val="006600"/>
                </a:solidFill>
                <a:latin typeface="Centaur"/>
              </a:rPr>
              <a:t>XVII</a:t>
            </a:r>
            <a:r>
              <a:rPr b="1" i="1" lang="ru-RU" sz="2800" spc="-1" strike="noStrike">
                <a:solidFill>
                  <a:srgbClr val="006600"/>
                </a:solidFill>
                <a:latin typeface="Centaur"/>
              </a:rPr>
              <a:t>века русские в Прикамье – численно преобладающий на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659640" cy="492444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459440" y="5337000"/>
            <a:ext cx="502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99"/>
                </a:solidFill>
                <a:latin typeface="Arial"/>
              </a:rPr>
              <a:t>Русская   плясова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522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22720" y="5818320"/>
            <a:ext cx="434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Русский   хорово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76720" cy="28638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851280" y="1197000"/>
            <a:ext cx="4932360" cy="3699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769280" y="49680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ародные промыслы русск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Пермского кр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 rot="20860800">
            <a:off x="323640" y="292392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радиции русских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332000" y="1484280"/>
            <a:ext cx="6697440" cy="43927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333440" y="1552680"/>
            <a:ext cx="67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aur"/>
              </a:rPr>
              <a:t>Народ ценит красоту своего края и называет зелёным золот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75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" dur="159425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8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" dur="15942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Т а т а р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первые татары появились среди монгольских племен в 6-9 веках, кочевавших к юго-востоку от Байк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В 13 веке, в связи с татаро-монгольском нашествием, название «татары» стало известно в Европе. В 14 веке оно распространилось на некоторые народы Евразии, входившие в Золотую Орду. В 16 – 19 веках в русских источниках татарами называют тюркоязычные народы, жившие на окраинах Русского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198520" cy="3097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556000" y="3429000"/>
            <a:ext cx="1952640" cy="3243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3564000" y="404640"/>
            <a:ext cx="4608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Georgia"/>
              </a:rPr>
              <a:t>татары</a:t>
            </a: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97" name=""/>
          <p:cNvSpPr/>
          <p:nvPr/>
        </p:nvSpPr>
        <p:spPr>
          <a:xfrm>
            <a:off x="5919840" y="2728800"/>
            <a:ext cx="261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003640" y="1628640"/>
            <a:ext cx="36925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Компактно проживают в бассейне рек Тулвы, Сылвы и Ирени. В </a:t>
            </a:r>
            <a:r>
              <a:rPr b="1" lang="en-US" sz="2400" spc="-1" strike="noStrike">
                <a:solidFill>
                  <a:srgbClr val="006600"/>
                </a:solidFill>
                <a:latin typeface="Californian FB"/>
              </a:rPr>
              <a:t>XVI – XVII</a:t>
            </a: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 вв. в Прикамье переселяются казанские татары. Издавно заняли земли, удобные для земледелия и животновод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fornian FB"/>
              </a:rPr>
              <a:t>Все селения достаточно крупные, живут зажиточно, очень чистоплотны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9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2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4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4248360" cy="2124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39640" y="2060640"/>
            <a:ext cx="4248360" cy="337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539640" y="5373720"/>
            <a:ext cx="4248360" cy="10303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5003640" y="333360"/>
            <a:ext cx="3573720" cy="96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entaur"/>
              </a:rPr>
              <a:t>сабантуй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entaur"/>
              <a:ea typeface="Centaur"/>
            </a:endParaRPr>
          </a:p>
        </p:txBody>
      </p:sp>
      <p:sp>
        <p:nvSpPr>
          <p:cNvPr id="103" name=""/>
          <p:cNvSpPr/>
          <p:nvPr/>
        </p:nvSpPr>
        <p:spPr>
          <a:xfrm>
            <a:off x="5076720" y="1557360"/>
            <a:ext cx="388944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амым ярким и красочным у татар был и остается  праздник Сабанту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entaur"/>
              </a:rPr>
              <a:t>Скачки на лошадях, состязания борцов на полотенцах в национальной борьбе куреш, выступления творческих коллективов, сменяя друг друга, продолжаются весь ден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523880" y="11430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2" dur="11292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3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34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7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Arial"/>
              </a:rPr>
              <a:t>Пермский край – единый кра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Дню рождения Пермского кра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посвящается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250920" y="333360"/>
            <a:ext cx="7200360" cy="5295960"/>
            <a:chOff x="250920" y="333360"/>
            <a:chExt cx="7200360" cy="5295960"/>
          </a:xfrm>
        </p:grpSpPr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250920" y="2133720"/>
              <a:ext cx="2374560" cy="34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 txBox="1"/>
            <p:nvPr/>
          </p:nvSpPr>
          <p:spPr>
            <a:xfrm>
              <a:off x="1547640" y="333360"/>
              <a:ext cx="4895640" cy="792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Коми - пермяки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635280" y="1630440"/>
              <a:ext cx="3816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7093080" y="1268280"/>
            <a:ext cx="1771560" cy="27352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6012000" y="4508640"/>
            <a:ext cx="2842920" cy="21049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771640" y="1844640"/>
            <a:ext cx="41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Коренные жители Прикам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Сформировались из племен, издавна проживающих по верхней Каме. Предки их назывались пермяками, пермичами, пермянами. В состав Русского государства вошли в 1472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4000"/>
                            </p:stCondLst>
                            <p:childTnLst>
                              <p:par>
                                <p:cTn id="26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4464000" cy="47797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2124000" y="260280"/>
            <a:ext cx="6284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755640" y="692280"/>
            <a:ext cx="727236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Centaur"/>
              </a:rPr>
              <a:t>БАШКИР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Centaur"/>
              <a:ea typeface="Centaur"/>
            </a:endParaRPr>
          </a:p>
        </p:txBody>
      </p:sp>
      <p:sp>
        <p:nvSpPr>
          <p:cNvPr id="117" name=""/>
          <p:cNvSpPr/>
          <p:nvPr/>
        </p:nvSpPr>
        <p:spPr>
          <a:xfrm>
            <a:off x="5003640" y="1865160"/>
            <a:ext cx="38894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Предки их пришли из области Булгарской. Большая часть современных башкирских сел и деревень имеют богатую, насчитывающую несколько столетий, истор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В 2007 году исполняется 450 лет со дня добровольного вхождения народов Башкирии в состав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40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227640" y="3141720"/>
            <a:ext cx="2051280" cy="30225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116000" y="3141720"/>
            <a:ext cx="2102040" cy="30956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851280" y="3645000"/>
            <a:ext cx="1765440" cy="2949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1979640" y="549360"/>
            <a:ext cx="518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дмурты</a:t>
            </a:r>
            <a:endParaRPr b="0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2" name=""/>
          <p:cNvSpPr/>
          <p:nvPr/>
        </p:nvSpPr>
        <p:spPr>
          <a:xfrm>
            <a:off x="1023840" y="1628640"/>
            <a:ext cx="7220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южные районы Прикамья начали заселяться с конца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. из Камского – Вятского междуречь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До сих пор в семейной обрядности удмуртов сохранилось немало представлений о злых и добрых духах и потустороннем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00"/>
                            </p:stCondLst>
                            <p:childTnLst>
                              <p:par>
                                <p:cTn id="29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4000"/>
                            </p:stCondLst>
                            <p:childTnLst>
                              <p:par>
                                <p:cTn id="30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У д м у р т ы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57240">
            <a:solidFill>
              <a:srgbClr val="3333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Удмурты – это крупнейший финно-угорский народ России. Впервые упоминание о них относится к 14 веку. Тогда они назывались ары, аряне, отяки, вотяки. Именно вотяками их и называли до 1932 г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Arial"/>
              </a:rPr>
              <a:t>В настоящее время они проживают в основном на территории Удмуртии, Кировской области, Пермского края, республике Марий Э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403280" y="4076640"/>
            <a:ext cx="3960720" cy="2513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372360" y="1700280"/>
            <a:ext cx="2280960" cy="3422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268360" y="189000"/>
            <a:ext cx="49690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арийц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1125360"/>
            <a:ext cx="52768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Их предки пришли в конце </a:t>
            </a:r>
            <a:r>
              <a:rPr b="1" lang="en-US" sz="2000" spc="-1" strike="noStrike">
                <a:solidFill>
                  <a:srgbClr val="006600"/>
                </a:solidFill>
                <a:latin typeface="Centaur"/>
              </a:rPr>
              <a:t>XVI – XVII</a:t>
            </a: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в. Из Среднего Поволжья из среды луговых марий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В наше время многие элементы культуры марийцев сохранились в неприкоснове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entaur"/>
              </a:rPr>
              <a:t>Марийцы – единственный народ на Урале, сохранивший свой народный костюм и язык в первоздан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19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2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978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Мы разные, но живем в одной стране и одном крае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ам нечего делить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3333cc"/>
                </a:solidFill>
                <a:latin typeface="Arial"/>
              </a:rPr>
              <a:t>Нужно лишь объединить усилия, чтобы все ценное в нашей истории сохранилось и приумножилось: и язык, и традиции, и культур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68360" y="1089000"/>
            <a:ext cx="8351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Знаю и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Люблю и зна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Century"/>
              </a:rPr>
              <a:t>Чем больше знаю, тем больше люблю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 "/>
          <p:cNvPicPr/>
          <p:nvPr/>
        </p:nvPicPr>
        <p:blipFill>
          <a:blip r:embed="rId1"/>
          <a:stretch/>
        </p:blipFill>
        <p:spPr>
          <a:xfrm>
            <a:off x="5435640" y="3860640"/>
            <a:ext cx="2806560" cy="1898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11280" y="549360"/>
            <a:ext cx="4235400" cy="5904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5076720" y="0"/>
            <a:ext cx="3275280" cy="3646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219640" y="589752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Century Schoolbook"/>
              </a:rPr>
              <a:t>Карта, герб и флаг Пермского кр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3480" y="3429000"/>
            <a:ext cx="8480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00"/>
                </a:solidFill>
                <a:latin typeface="Centaur"/>
              </a:rPr>
              <a:t>Пермский кра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8000"/>
                            </p:stCondLst>
                            <p:childTnLst>
                              <p:par>
                                <p:cTn id="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1413000"/>
            <a:ext cx="2087640" cy="201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635280" y="141300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300720" y="1413000"/>
            <a:ext cx="2087640" cy="19447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2108160" cy="2237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443640" y="3933720"/>
            <a:ext cx="2089080" cy="22370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708360" y="3933720"/>
            <a:ext cx="2016000" cy="2232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363600" y="333360"/>
            <a:ext cx="83120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Century"/>
              </a:rPr>
              <a:t>Народы ,издавно населяющие наш край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Century"/>
              <a:ea typeface="Centur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6000"/>
                            </p:stCondLst>
                            <p:childTnLst>
                              <p:par>
                                <p:cTn id="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8000"/>
                            </p:stCondLst>
                            <p:childTnLst>
                              <p:par>
                                <p:cTn id="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 2001 году население Пермской области составляло 2.980.000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Среди них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2.380.000 человек или 80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80 тысяч человек или 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150 тысяч человек   или 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50 тысяч человек или 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краинцев 45 тысяч человек или 1,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35 тысяч человек или 1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из справочника «Пермская область»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4621320" cy="6021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908000" y="6021360"/>
            <a:ext cx="4608720" cy="709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4716360" y="1341360"/>
            <a:ext cx="1582920" cy="147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859280" y="3500280"/>
            <a:ext cx="1467000" cy="15843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5"/>
          <a:stretch/>
        </p:blipFill>
        <p:spPr>
          <a:xfrm>
            <a:off x="2627280" y="538200"/>
            <a:ext cx="1460520" cy="1361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56000" y="3716280"/>
            <a:ext cx="1604880" cy="1497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2916360" y="5516640"/>
            <a:ext cx="1339560" cy="134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8"/>
          <a:stretch/>
        </p:blipFill>
        <p:spPr>
          <a:xfrm>
            <a:off x="5364000" y="5157720"/>
            <a:ext cx="1366920" cy="14907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819840" y="538200"/>
            <a:ext cx="232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Century Schoolbook"/>
              </a:rPr>
              <a:t>Расселение народов Прикам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8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2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20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9144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В 2002 году по результатам переписи в Пермской области проживало 2.819.421 челове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Среди тех, кому 16 лет и старш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усских 1.923.017 человек или 6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атар 115.771 человек или 4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оми-пермяков 86.456 человек или 3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шкир 32.984 человека или 1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Удмуртов 14.846 человек или 0,8 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-252360" y="0"/>
          <a:ext cx="939636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252360" y="0"/>
                    <a:ext cx="939636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ac5fa"/>
            </a:gs>
            <a:gs pos="100000">
              <a:srgbClr val="cae4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3333cc"/>
                </a:solidFill>
                <a:latin typeface="Arial"/>
              </a:rPr>
              <a:t>Р у с с к и 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4000" y="1600200"/>
            <a:ext cx="8362800" cy="4997520"/>
          </a:xfrm>
          <a:prstGeom prst="rect">
            <a:avLst/>
          </a:prstGeom>
          <a:noFill/>
          <a:ln w="57240">
            <a:solidFill>
              <a:srgbClr val="3333cc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Происходят из восточных славян, первоначально назывались родиями, россами, русами, до начала ХХ  века в научной литературе употреблялся термин великороссы или великорусы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Русские состоят из крупных этнических групп, которые различаются по наречиям языка, особенностям жилища, одежды, обрядов и т.п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8T04:43:08Z</dcterms:created>
  <dc:creator>Елена Викторовна</dc:creator>
  <dc:description/>
  <dc:language>en-US</dc:language>
  <cp:lastModifiedBy>надежда</cp:lastModifiedBy>
  <dcterms:modified xsi:type="dcterms:W3CDTF">2009-08-07T18:01:42Z</dcterms:modified>
  <cp:revision>17</cp:revision>
  <dc:subject/>
  <dc:title>Слайд 1</dc:title>
</cp:coreProperties>
</file>