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7.gif" ContentType="image/gif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10A2-C733-44C7-ADF8-CCB80DC8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81AA-2B30-4381-8233-0FB417FA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C8DC-1837-4DD2-8D6D-2A9A7B75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ECFE-B501-4245-A2C1-6F162747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A40D5-7C6F-45ED-A2B9-BB5BA6F2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5862F-3576-488D-A658-26571AFF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94C3A-CCE7-4A87-AA16-2C061402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012F1-E92F-4F94-B7BF-0B004DC2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0D2F9-C957-40F5-AB64-1AE77512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BA252-227D-4C5C-9A47-B0BC7680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E674E-AD13-4D20-8DAD-D08A90A4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DA9-6D11-4969-96F7-188D1F61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DE54C-971E-4607-BAF6-02E7C14D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CBFA6-B3B1-427D-8688-BA1F33D8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BDE07-7177-4C34-A32D-0A045862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9C9DA-2F7E-4CF5-957C-D690BC6B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52549-931C-4BAF-9128-2E0BC124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722C-AF37-43B3-B042-8FC7385F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1A0A-54EB-435D-BC7F-6D0F19A9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7B4-D959-4163-A583-44D80149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6BF-D019-4803-A852-57B3FDEF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017-5B4E-4FCD-8822-2406618A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B3C6-F514-48EA-BBC7-45D2CE1E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1DA-5A79-477D-95B6-809E92EB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4B28-6EAD-4DC0-827B-B4E9890A4197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B263-96BE-450C-862E-191F9E0907A7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нутренний слай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ерый каме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рый камень – уникальный памятник уральской природы. Здесь, как в предгорьях Кавказа, каждую весну распускаются голубые ромашки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Водопад  Плаку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8000" y="159984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генды рассказывают историю о несчастной девушке, насильно разлученной с любимым. Две струи Плакуна – это слезы, текущие из глаз бедной девушки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тропавловская  церков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51280" y="1341000"/>
            <a:ext cx="349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этой церкви         находится икона         Божьей Матери         Неопалимая         Купина. Ее хранили и берегли 300лет. Она  про-  славляется 11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юля крестным         ходом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егенда об озере Лесн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19280" y="1599840"/>
            <a:ext cx="374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3120" y="4098960"/>
            <a:ext cx="830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advTm="8000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24000" y="620640"/>
            <a:ext cx="4824360" cy="518472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ransition advTm="800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675640" cy="583416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47640" y="260280"/>
            <a:ext cx="6048720" cy="61930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2087640" cy="1800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4:28:42Z</dcterms:created>
  <dc:creator>1</dc:creator>
  <dc:description/>
  <cp:keywords/>
  <dc:language>en-US</dc:language>
  <cp:lastModifiedBy>надежда</cp:lastModifiedBy>
  <dcterms:modified xsi:type="dcterms:W3CDTF">2009-08-07T18:01:15Z</dcterms:modified>
  <cp:revision>10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