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804-6DFB-44A6-ACC6-2A6E383E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ABE-65C3-4024-B1F4-5D35F3E0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80C-62AA-46C0-B67C-098892EF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BEE-1DBF-4B1A-87D0-CBB35EFE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6AF8F-04F5-4B10-B42B-105D39A5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8FA4E-8090-4B80-B008-0AAACBB7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6AA66-2CDB-4E95-8D3A-0AAFA0B9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FFD6B-A6D7-45DE-8E23-233C0CC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BA6AC-0A79-40AD-A8BD-4E65711C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9DDC8-88F9-44D8-B2C2-52885A0C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0D66F-DC89-4939-8ED1-B7E9BE7F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E60-7817-49A5-84CC-B47995A3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A4EFC-A68B-4576-BE97-7FA3129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10886-521D-4EC7-A567-825671F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A0B58-5D3A-4CF0-8245-CBDE250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F4F59-EF16-43DA-9B57-D5B984EA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4816E-6423-468D-9AD7-56BEDEDC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B2E-AF56-4070-8FFF-31EE9DD3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967-3D8A-449B-97C1-F66BF543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39D-BD1A-4F29-AA07-4B15D205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182-7CA2-4C48-BBCC-AFE91F07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2DC-6137-4219-9531-EE515E78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145-593D-4948-956B-79370E5E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42B-FB66-4C19-895B-0E1AC5B9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21E7-845A-469D-AB71-42723195FE2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68C8-B2AA-4490-AE54-E9B47F11EF9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нутренний слай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ерый кам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ый камень – уникальный памятник уральской природы. Здесь, как в предгорьях Кавказа, каждую весну распускаются голубые ромашк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допад  Плаку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генды рассказывают историю о несчастной девушке, насильно разлученной с любимым. Две струи Плакуна – это слезы, текущие из глаз бедной девушк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тропавловская  це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341000"/>
            <a:ext cx="349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той церкви         находится икона         Божьей Матери         Неопалимая         Купина. Ее хранили и берегли 300лет. Она  про-  славляется 11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юля крестным         ход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б озере Лес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1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409896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advTm="8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advTm="8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75640" cy="58341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048720" cy="6193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2087640" cy="1800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4:28:42Z</dcterms:created>
  <dc:creator>1</dc:creator>
  <dc:description/>
  <cp:keywords/>
  <dc:language>en-US</dc:language>
  <cp:lastModifiedBy>надежда</cp:lastModifiedBy>
  <dcterms:modified xsi:type="dcterms:W3CDTF">2009-08-07T18:01:15Z</dcterms:modified>
  <cp:revision>1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