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9C3-64DB-484F-BC75-F5CC5493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2C3-41B2-452F-B22E-CA3A0797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95A-8DDA-400D-895C-F11F3B4D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ABD-FD51-4762-9B8A-1888C474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F83C9-3805-4047-BB0B-F52A2271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FCF16-CFB9-4E51-BC95-5378737C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27987-DD38-461B-8A2C-4A463223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E3C14-7252-4731-A437-9AC7D76F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EF762-B577-4035-9B14-6E267A77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6A7D8-2A0D-45B6-941F-364D8BEE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1192B-B645-45F6-AB91-97C46A13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574-975F-42B1-AC68-7E2A243A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CFBA7-52E1-456F-A1ED-4BCD5D99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6FF05-E84D-46C9-88BA-144B7852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D5100-5D58-49C3-ADB7-5503CEF6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57A04-815B-414B-B486-143FBAC2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4115F-CBF4-4CB5-9809-EAA59717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78B-753C-4FB2-8A68-3DC31DF2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57B-1972-4146-8B76-C08A09E0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604-82CC-4E39-A241-45F96D98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195-C3AE-47D9-9042-8BB62AAC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BCA-D84C-4707-924C-7BAFC41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6B9-BBC0-4972-BCD8-1912662D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235-FBE2-4187-8BC5-B4796F0F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1DAD-DA89-49A5-A1BC-CD43D90BE8F9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1413-3812-4294-8B8A-BECA8E38D3D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нутренний слай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ерый кам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ый камень – уникальный памятник уральской природы. Здесь, как в предгорьях Кавказа, каждую весну распускаются голубые ромашк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одопад  Плаку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генды рассказывают историю о несчастной девушке, насильно разлученной с любимым. Две струи Плакуна – это слезы, текущие из глаз бедной девушк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тропавловская  церк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341000"/>
            <a:ext cx="349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этой церкви         находится икона         Божьей Матери         Неопалимая         Купина. Ее хранили и берегли 300лет. Она  про-  славляется 11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юля крестным         ходом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б озере Лес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19280" y="1599840"/>
            <a:ext cx="374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3120" y="409896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advTm="8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824360" cy="518472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advTm="8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675640" cy="58341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6048720" cy="6193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2087640" cy="1800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4:28:42Z</dcterms:created>
  <dc:creator>1</dc:creator>
  <dc:description/>
  <cp:keywords/>
  <dc:language>en-US</dc:language>
  <cp:lastModifiedBy>надежда</cp:lastModifiedBy>
  <dcterms:modified xsi:type="dcterms:W3CDTF">2009-08-07T18:01:15Z</dcterms:modified>
  <cp:revision>10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