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429-21EB-4ADF-B950-67D37524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C97-9646-4094-95B3-D4570739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F5E-6BE1-469F-9005-39684F8B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0C8-889B-47A8-A34E-2DCE7D44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A4B-BC66-4A2F-875C-4FE946F3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906-730D-49D6-BC59-12C6D506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386-CDB8-4BD0-AD74-B88C3061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2A0-8837-45C0-8A4B-2FBB81F5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355-6C72-4EC1-8560-E8EBB357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370-3BFC-4CED-B741-31688958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570-6BAE-49A8-9C3B-0DA2A0F9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DBF-6419-4A62-B2FB-2D2D3986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9ED-CBA3-4B7B-AB21-053042F0A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720800"/>
            <a:ext cx="741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aur"/>
              </a:rPr>
              <a:t>Мы на одной земле жив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зыкально – краеведческая 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132440" cy="489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76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русские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91628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Заселяют пермские земли по Каме и Чусовой с конца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 середине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II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ека русские в Прикамье – численно преобладающи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9440" y="5337000"/>
            <a:ext cx="50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ская   пляс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2720" y="581832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усский   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69280" y="4968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одные промыслы 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860800">
            <a:off x="323640" y="29239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диции русски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3440" y="15526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Народ ценит красоту своего края и называет зелёным зол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942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5942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Т а т а р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первые татары появились среди монгольских племен в 6-9 веках, кочевавших к юго-востоку от Байк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 13 веке, в связи с татаро-монгольском нашествием, название «татары» стало известно в Европе. В 14 веке оно распространилось на некоторые народы Евразии, входившие в Золотую Орду. В 16 – 19 веках в русских источниках татарами называют тюркоязычные народы, жившие на окраинах Русско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8520" cy="309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1952640" cy="324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64000" y="40464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атар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5919840" y="2728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628640"/>
            <a:ext cx="369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Компактно проживают в бассейне рек Тулвы, Сылвы и Ирени. В </a:t>
            </a:r>
            <a:r>
              <a:rPr b="1" lang="en-US" sz="2400" spc="-1" strike="noStrike">
                <a:solidFill>
                  <a:srgbClr val="006600"/>
                </a:solidFill>
                <a:latin typeface="Californian FB"/>
              </a:rPr>
              <a:t>XVI – XVII</a:t>
            </a: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 вв. в Прикамье переселяются казанские татары. Издавно заняли земли, удобные для земледелия и животно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Все селения достаточно крупные, живут зажиточно, очень чистопл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24836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4248360" cy="337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4248360" cy="1030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3640" y="333360"/>
            <a:ext cx="35737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aur"/>
              </a:rPr>
              <a:t>сабантуй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aur"/>
              <a:ea typeface="Centaur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1557360"/>
            <a:ext cx="38894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амым ярким и красочным у татар был и остается  праздник Сабант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качки на лошадях, состязания борцов на полотенцах в национальной борьбе куреш, выступления творческих коллективов, сменяя друг друга, продолжаются весь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129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рмский край – еди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ню рождения Перм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вящ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50920" y="333360"/>
            <a:ext cx="7200360" cy="5295960"/>
            <a:chOff x="250920" y="333360"/>
            <a:chExt cx="7200360" cy="529596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50920" y="2133720"/>
              <a:ext cx="237456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547640" y="333360"/>
              <a:ext cx="4895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ми - пермяк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5280" y="1630440"/>
              <a:ext cx="381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715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1640" y="184464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оренные жители Прика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Сформировались из племен, издавна проживающих по верхней Каме. Предки их назывались пермяками, пермичами, пермянами. В состав Русского государства вошли в 14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464000" cy="477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24000" y="2602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92280"/>
            <a:ext cx="727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entaur"/>
              </a:rPr>
              <a:t>БАШК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entaur"/>
              <a:ea typeface="Centaur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86516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едки их пришли из области Булгарской. Большая часть современных башкирских сел и деревень имеют богатую, насчитывающую несколько столетий, ис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 2007 году исполняется 450 лет со дня добровольного вхождения народов Башкирии в соста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051280" cy="302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102040" cy="30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3645000"/>
            <a:ext cx="1765440" cy="294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79640" y="54936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мурт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23840" y="1628640"/>
            <a:ext cx="72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южные районы Прикамья начали заселяться с конца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. из Камского – Вятского междуре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До сих пор в семейной обрядности удмуртов сохранилось немало представлений о злых и добрых духах и потусторонн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У д м у р т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дмурты – это крупнейший финно-угорский народ России. Впервые упоминание о них относится к 14 веку. Тогда они назывались ары, аряне, отяки, вотяки. Именно вотяками их и называли до 1932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настоящее время они проживают в основном на территории Удмуртии, Кировской области, Пермского края, республике Марий Э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96072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2280960" cy="342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68360" y="189000"/>
            <a:ext cx="4969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ий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25360"/>
            <a:ext cx="527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Их предки пришли в конце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 – XVI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в. Из Среднего Поволжья из среды луговых мари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наше время многие элементы культуры марийцев сохранились в неприкоснове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Марийцы – единственный народ на Урале, сохранивший свой народный костюм и язык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54936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ы разные, но живем в одной стране и одном кра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ам нечего де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ужно лишь объединить усилия, чтобы все ценное в нашей истории сохранилось и приумножилось: и язык, и традиции, и куль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108900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Знаю и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Люблю и зн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Чем больше знаю, тем больше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5435640" y="3860640"/>
            <a:ext cx="280656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23540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275280" cy="364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975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ury Schoolbook"/>
              </a:rPr>
              <a:t>Карта, герб и флаг Перм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3429000"/>
            <a:ext cx="84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entaur"/>
              </a:rPr>
              <a:t>Пермский кр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00720" y="1413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210816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43640" y="3933720"/>
            <a:ext cx="2089080" cy="223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393372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63600" y="333360"/>
            <a:ext cx="8312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Народы ,издавно населяющие наш кр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001 году население Пермской области составляло 2.980.0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еди ни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2.380.000 человек или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80 тысяч человек или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150 тысяч человек   или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50 тысяч человек или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инцев 45 тысяч человек или 1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35 тысяч человек или 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из справочника «Пермская область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21320" cy="602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6021360"/>
            <a:ext cx="4608720" cy="7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582920" cy="14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146700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27280" y="538200"/>
            <a:ext cx="1460520" cy="136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604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64000" y="5157720"/>
            <a:ext cx="1366920" cy="14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19840" y="5382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Расселение народов Прика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2002 году по результатам переписи в Пермской области проживало 2.819.421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и тех, кому 16 лет и стар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1.923.017 человек или 6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15.771 человек или 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86.456 человек или 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32.984 человека или 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14.846 человек или 0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-252360" y="0"/>
          <a:ext cx="9396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0"/>
                    <a:ext cx="9396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Р у с с к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исходят из восточных славян, первоначально назывались родиями, россами, русами, до начала ХХ  века в научной литературе употреблялся термин великороссы или великорусы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усские состоят из крупных этнических групп, которые различаются по наречиям языка, особенностям жилища, одежды, обрядов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4:43:08Z</dcterms:created>
  <dc:creator>Елена Викторовна</dc:creator>
  <dc:description/>
  <dc:language>en-US</dc:language>
  <cp:lastModifiedBy>надежда</cp:lastModifiedBy>
  <dcterms:modified xsi:type="dcterms:W3CDTF">2009-08-07T18:01:42Z</dcterms:modified>
  <cp:revision>17</cp:revision>
  <dc:subject/>
  <dc:title>Слайд 1</dc:title>
</cp:coreProperties>
</file>