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C20-D399-41CA-B8AB-80FE8458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A43-3CFE-4525-BBCB-6B15E52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0D5-ACB9-49EA-82D4-0494724E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918-AFF3-4D0E-9EEB-AC054005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48801-28E3-49F7-A9AC-AC9ECD16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84D1E-6938-4799-B15A-E3F83E5B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EF424-37A6-489E-B2A9-189B191D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47B3E-1D3D-48FA-83CE-98F850DE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A3903-3C71-48F7-A385-06FDFD6B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9BB56-07AF-4D4B-B7FA-8B66E3EA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E8F9A-719C-4FD5-A15F-83A1875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3F2-F59E-4523-9608-0ED66A17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DBFDE-7B16-4588-999E-39FF125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3DF46-59DE-4A12-9976-1E2F2688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FA22D-28B5-460B-BC4E-191B4DDA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14631-2003-4230-BD0E-68BA3EA6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D199F-561F-4366-9938-0396DDF4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920-59E2-4FD2-BC15-C46033D1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D299-3051-4B91-9FC1-16E34E09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3DE-50A6-4981-9A60-EDF5F2AD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9E7-0E03-4E31-9397-5E21C87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2C8-A810-4C6B-970C-F0602089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8EA-D5C0-471E-80B7-7131C8DE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67B-C3C0-4279-B15C-6F4BDBEB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F4FB-FB12-4001-AFCB-D67ADE6114B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0A4E-0E40-4C4B-B42D-29B5B6FDE2F4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нутренний слай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ерый кам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ый камень – уникальный памятник уральской природы. Здесь, как в предгорьях Кавказа, каждую весну распускаются голубые ромашк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допад  Плаку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генды рассказывают историю о несчастной девушке, насильно разлученной с любимым. Две струи Плакуна – это слезы, текущие из глаз бедной девушк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тропавловская  це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341000"/>
            <a:ext cx="349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той церкви         находится икона         Божьей Матери         Неопалимая         Купина. Ее хранили и берегли 300лет. Она  про-  славляется 11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юля крестным         ход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б озере Лес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1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409896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advTm="8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advTm="8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75640" cy="58341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048720" cy="6193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2087640" cy="1800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4:28:42Z</dcterms:created>
  <dc:creator>1</dc:creator>
  <dc:description/>
  <cp:keywords/>
  <dc:language>en-US</dc:language>
  <cp:lastModifiedBy>надежда</cp:lastModifiedBy>
  <dcterms:modified xsi:type="dcterms:W3CDTF">2009-08-07T18:01:15Z</dcterms:modified>
  <cp:revision>1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