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5.png" ContentType="image/png"/>
  <Override PartName="/ppt/media/image43.jpeg" ContentType="image/jpeg"/>
  <Override PartName="/ppt/media/image39.png" ContentType="image/png"/>
  <Override PartName="/ppt/media/image41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586-57DA-4B77-8F70-AFBFF18E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F60-50EF-439C-AE1D-DE400A4F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9A2-3CD9-4E75-B7D9-C3CE4569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6E8-FB4A-47DB-A2CD-155616AC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133-3E97-48A0-B88C-EC76E289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FFB-9A58-4913-9C26-5FFAC798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347-8F50-4BD4-BD8A-F0320A3A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9BC-C5B1-4874-A2B6-82011E6C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4E7-053E-4699-BE06-E216A51C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297-ECB9-44C3-A5A3-D265DD69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38E-4D71-4195-A802-07D9F558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81AA-5DAB-430C-AA50-5757568D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1FF0-3075-479D-A3DE-AF386BA1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1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1720800"/>
            <a:ext cx="7417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entaur"/>
              </a:rPr>
              <a:t>Мы на одной земле жив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860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зыкально – краеведческая гости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4132440" cy="489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26920" y="476280"/>
            <a:ext cx="756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русские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91628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Заселяют пермские земли по Каме и Чусовой с конца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 середине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II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ека русские в Прикамье – численно преобладающий на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59440" y="5337000"/>
            <a:ext cx="502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усская   пляс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2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22720" y="581832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усский   хор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8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51280" y="119700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69280" y="49680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родные промыслы рус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0860800">
            <a:off x="323640" y="29239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адиции русски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9744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3440" y="155268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Народ ценит красоту своего края и называет зелёным золо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5942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5942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Т а т а р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первые татары появились среди монгольских племен в 6-9 веках, кочевавших к юго-востоку от Байк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 13 веке, в связи с татаро-монгольском нашествием, название «татары» стало известно в Европе. В 14 веке оно распространилось на некоторые народы Евразии, входившие в Золотую Орду. В 16 – 19 веках в русских источниках татарами называют тюркоязычные народы, жившие на окраинах Русского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98520" cy="309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1952640" cy="3243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564000" y="404640"/>
            <a:ext cx="46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атары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5919840" y="272880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628640"/>
            <a:ext cx="369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Компактно проживают в бассейне рек Тулвы, Сылвы и Ирени. В </a:t>
            </a:r>
            <a:r>
              <a:rPr b="1" lang="en-US" sz="2400" spc="-1" strike="noStrike">
                <a:solidFill>
                  <a:srgbClr val="006600"/>
                </a:solidFill>
                <a:latin typeface="Californian FB"/>
              </a:rPr>
              <a:t>XVI – XVII</a:t>
            </a: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 вв. в Прикамье переселяются казанские татары. Издавно заняли земли, удобные для земледелия и животно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Все селения достаточно крупные, живут зажиточно, очень чистопл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248360" cy="21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4248360" cy="337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9640" y="5373720"/>
            <a:ext cx="4248360" cy="1030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003640" y="333360"/>
            <a:ext cx="357372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entaur"/>
              </a:rPr>
              <a:t>сабантуй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entaur"/>
              <a:ea typeface="Centaur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1557360"/>
            <a:ext cx="38894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амым ярким и красочным у татар был и остается  праздник Сабант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качки на лошадях, состязания борцов на полотенцах в национальной борьбе куреш, выступления творческих коллективов, сменяя друг друга, продолжаются весь д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1292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7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рмский край – единый кр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ню рождения Пермского кр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свяща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50920" y="333360"/>
            <a:ext cx="7200360" cy="5295960"/>
            <a:chOff x="250920" y="333360"/>
            <a:chExt cx="7200360" cy="529596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50920" y="2133720"/>
              <a:ext cx="2374560" cy="34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1547640" y="333360"/>
              <a:ext cx="4895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оми - пермяки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35280" y="1630440"/>
              <a:ext cx="381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3080" y="1268280"/>
            <a:ext cx="1771560" cy="273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12000" y="4508640"/>
            <a:ext cx="2842920" cy="21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71640" y="1844640"/>
            <a:ext cx="417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оренные жители Прикам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Сформировались из племен, издавна проживающих по верхней Каме. Предки их назывались пермяками, пермичами, пермянами. В состав Русского государства вошли в 147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464000" cy="4779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24000" y="26028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692280"/>
            <a:ext cx="727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entaur"/>
              </a:rPr>
              <a:t>БАШКИ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entaur"/>
              <a:ea typeface="Centaur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865160"/>
            <a:ext cx="388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редки их пришли из области Булгарской. Большая часть современных башкирских сел и деревень имеют богатую, насчитывающую несколько столетий, ис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В 2007 году исполняется 450 лет со дня добровольного вхождения народов Башкирии в соста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27640" y="3141720"/>
            <a:ext cx="2051280" cy="3022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102040" cy="309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51280" y="3645000"/>
            <a:ext cx="1765440" cy="294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979640" y="54936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мурты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023840" y="1628640"/>
            <a:ext cx="72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южные районы Прикамья начали заселяться с конца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. из Камского – Вятского междуреч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До сих пор в семейной обрядности удмуртов сохранилось немало представлений о злых и добрых духах и потусторонн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У д м у р т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дмурты – это крупнейший финно-угорский народ России. Впервые упоминание о них относится к 14 веку. Тогда они назывались ары, аряне, отяки, вотяки. Именно вотяками их и называли до 1932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 настоящее время они проживают в основном на территории Удмуртии, Кировской области, Пермского края, республике Марий Э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3960720" cy="2513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2280960" cy="3422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68360" y="189000"/>
            <a:ext cx="4969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ийц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125360"/>
            <a:ext cx="527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Их предки пришли в конце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 – XVI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в. Из Среднего Поволжья из среды луговых марий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наше время многие элементы культуры марийцев сохранились в неприкоснове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Марийцы – единственный народ на Урале, сохранивший свой народный костюм и язык в первозд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549360"/>
            <a:ext cx="8497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Мы разные, но живем в одной стране и одном кра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ам нечего дел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ужно лишь объединить усилия, чтобы все ценное в нашей истории сохранилось и приумножилось: и язык, и традиции, и куль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1089000"/>
            <a:ext cx="835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Знаю и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Люблю и зна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Чем больше знаю, тем больше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 "/>
          <p:cNvPicPr/>
          <p:nvPr/>
        </p:nvPicPr>
        <p:blipFill>
          <a:blip r:embed="rId1"/>
          <a:stretch/>
        </p:blipFill>
        <p:spPr>
          <a:xfrm>
            <a:off x="5435640" y="3860640"/>
            <a:ext cx="2806560" cy="1898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235400" cy="590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275280" cy="364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589752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ury Schoolbook"/>
              </a:rPr>
              <a:t>Карта, герб и флаг Перм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480" y="3429000"/>
            <a:ext cx="848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entaur"/>
              </a:rPr>
              <a:t>Пермский кр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087640" cy="201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00720" y="141300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2108160" cy="22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443640" y="3933720"/>
            <a:ext cx="2089080" cy="223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708360" y="393372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63600" y="333360"/>
            <a:ext cx="83120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Народы ,издавно населяющие наш кра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2001 году население Пермской области составляло 2.980.000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реди ни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2.380.000 человек или 8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80 тысяч человек или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150 тысяч человек   или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50 тысяч человек или 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инцев 45 тысяч человек или 1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35 тысяч человек или 1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из справочника «Пермская область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21320" cy="6021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6021360"/>
            <a:ext cx="4608720" cy="7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1582920" cy="147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1467000" cy="15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627280" y="538200"/>
            <a:ext cx="1460520" cy="136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556000" y="3716280"/>
            <a:ext cx="160488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916360" y="551664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5364000" y="5157720"/>
            <a:ext cx="1366920" cy="14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19840" y="53820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Расселение народов Прика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2002 году по результатам переписи в Пермской области проживало 2.819.421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и тех, кому 16 лет и старш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1.923.017 человек или 6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15.771 человек или 4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86.456 человек или 3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32.984 человека или 1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14.846 человек или 0,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-252360" y="0"/>
          <a:ext cx="93963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0"/>
                    <a:ext cx="93963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Р у с с к и 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оисходят из восточных славян, первоначально назывались родиями, россами, русами, до начала ХХ  века в научной литературе употреблялся термин великороссы или великорусы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усские состоят из крупных этнических групп, которые различаются по наречиям языка, особенностям жилища, одежды, обрядов и т.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4:43:08Z</dcterms:created>
  <dc:creator>Елена Викторовна</dc:creator>
  <dc:description/>
  <dc:language>en-US</dc:language>
  <cp:lastModifiedBy>надежда</cp:lastModifiedBy>
  <dcterms:modified xsi:type="dcterms:W3CDTF">2009-08-07T18:01:42Z</dcterms:modified>
  <cp:revision>17</cp:revision>
  <dc:subject/>
  <dc:title>Слайд 1</dc:title>
</cp:coreProperties>
</file>