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begingame.wav" ContentType="audio/x-wav"/>
  <Override PartName="/ppt/media/image13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730-EC98-4693-BA5C-97698D00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97B-497F-4923-BC85-0547551D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211-5CB6-49F7-BDA7-0CD02DE0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9E9-5E0C-458F-B610-4F6FDF33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5DA-9143-416E-B89E-EB7044C0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06F-70C5-4D93-9F39-6A7CC45E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610-4FD3-4725-8B10-DE3B0221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15C-AA5B-409F-B85C-BA14E266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7B9-CDE7-4074-9D57-9C244292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8D4-93DD-4F84-936D-83E495A0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22C-42B4-4A6D-8440-62EF0631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39D-D534-431B-B6BC-1EBB997C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4382-E26B-4C65-A83E-3903D3EBE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eginga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11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12.xml"/><Relationship Id="rId20" Type="http://schemas.openxmlformats.org/officeDocument/2006/relationships/slide" Target="slide17.xml"/><Relationship Id="rId21" Type="http://schemas.openxmlformats.org/officeDocument/2006/relationships/slide" Target="slide22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ixic.ru/i/60L02861t8h2n667.jpg" TargetMode="External"/><Relationship Id="rId2" Type="http://schemas.openxmlformats.org/officeDocument/2006/relationships/hyperlink" Target="http://photos.wikimapia.org/p/00/05/09/04/18_big.jpg" TargetMode="External"/><Relationship Id="rId3" Type="http://schemas.openxmlformats.org/officeDocument/2006/relationships/hyperlink" Target="https://prv3.lori-images.net/gerb-goroda-solikamska-0005708391-preview.jpg" TargetMode="External"/><Relationship Id="rId4" Type="http://schemas.openxmlformats.org/officeDocument/2006/relationships/hyperlink" Target="http://1.bp.blogspot.com/-fWNE1i9pKNU/Tej55vM9zvI/AAAAAAAAAVU/S88mHhwkfOg/s1600/IMG_4796.JPG" TargetMode="External"/><Relationship Id="rId5" Type="http://schemas.openxmlformats.org/officeDocument/2006/relationships/hyperlink" Target="http://klopp.ru/uploads/posts/2008-08/1219013596_-20.jpg" TargetMode="External"/><Relationship Id="rId6" Type="http://schemas.openxmlformats.org/officeDocument/2006/relationships/hyperlink" Target="http://img4.tourbina.ru/photos.4/8/7/0/4/5/1454078/big.photo/Tulymskiy-kamen.jpg" TargetMode="External"/><Relationship Id="rId7" Type="http://schemas.openxmlformats.org/officeDocument/2006/relationships/hyperlink" Target="https://img.localway.ru/scaled/guide/268/596971/820x0.jpg" TargetMode="External"/><Relationship Id="rId8" Type="http://schemas.openxmlformats.org/officeDocument/2006/relationships/hyperlink" Target="http://farm8.staticflickr.com/7143/6660069221_32b15430ba_b.jpg" TargetMode="External"/><Relationship Id="rId9" Type="http://schemas.openxmlformats.org/officeDocument/2006/relationships/hyperlink" Target="http://florapedia.ru/media/pic_full/2/7233.jpg" TargetMode="External"/><Relationship Id="rId10" Type="http://schemas.openxmlformats.org/officeDocument/2006/relationships/hyperlink" Target="https://www.fiftydegreesnorth.com/images/media/full/151.jpg" TargetMode="External"/><Relationship Id="rId11" Type="http://schemas.openxmlformats.org/officeDocument/2006/relationships/hyperlink" Target="http://photos.streamphoto.ru/e/b/9/3727e9523ff8b3aaf1daad96555de9be.jpg" TargetMode="External"/><Relationship Id="rId12" Type="http://schemas.openxmlformats.org/officeDocument/2006/relationships/hyperlink" Target="https://im3-tub-ru.yandex.net/i?id=800b915e020a71abba50531f81ea9292&amp;n=33&amp;h=215&amp;w=382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4552" b="10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17520" y="5334120"/>
            <a:ext cx="386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чилова Н.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СергинскаяСОШ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1"/>
          <p:cNvSpPr/>
          <p:nvPr/>
        </p:nvSpPr>
        <p:spPr>
          <a:xfrm>
            <a:off x="487692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6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AutoShape 19"/>
          <p:cNvSpPr/>
          <p:nvPr/>
        </p:nvSpPr>
        <p:spPr>
          <a:xfrm>
            <a:off x="3124080" y="316800"/>
            <a:ext cx="54864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рб какого города изображён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809880" y="4954680"/>
            <a:ext cx="472464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оликамск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gerb-goroda-solikamska-0005708391-preview.jpg"/>
          <p:cNvPicPr/>
          <p:nvPr/>
        </p:nvPicPr>
        <p:blipFill>
          <a:blip r:embed="rId5"/>
          <a:srcRect l="0" t="0" r="11222" b="4442"/>
          <a:stretch/>
        </p:blipFill>
        <p:spPr>
          <a:xfrm>
            <a:off x="1219320" y="533520"/>
            <a:ext cx="17524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0"/>
          <p:cNvSpPr/>
          <p:nvPr/>
        </p:nvSpPr>
        <p:spPr>
          <a:xfrm>
            <a:off x="47242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2" name="AutoShape 19"/>
          <p:cNvSpPr/>
          <p:nvPr/>
        </p:nvSpPr>
        <p:spPr>
          <a:xfrm>
            <a:off x="1641600" y="794880"/>
            <a:ext cx="6602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каким городом связана добыча нефти?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3962520" y="4802400"/>
            <a:ext cx="426708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нушк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Скругленный прямоугольник 10"/>
          <p:cNvSpPr/>
          <p:nvPr/>
        </p:nvSpPr>
        <p:spPr>
          <a:xfrm>
            <a:off x="42670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2" name="AutoShape 19"/>
          <p:cNvSpPr/>
          <p:nvPr/>
        </p:nvSpPr>
        <p:spPr>
          <a:xfrm>
            <a:off x="1295280" y="920880"/>
            <a:ext cx="740736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столица Прикамь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3505320" y="4864320"/>
            <a:ext cx="396072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дын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1447920" y="542520"/>
            <a:ext cx="6775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животное считают символом Пермско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2" descr="Brown-Bear-1920x1080.jpg"/>
          <p:cNvPicPr/>
          <p:nvPr/>
        </p:nvPicPr>
        <p:blipFill>
          <a:blip r:embed="rId5"/>
          <a:srcRect l="16521" t="4758" r="17856" b="19055"/>
          <a:stretch/>
        </p:blipFill>
        <p:spPr>
          <a:xfrm>
            <a:off x="4419720" y="3962520"/>
            <a:ext cx="3733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12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1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2" name="AutoShape 18"/>
          <p:cNvSpPr/>
          <p:nvPr/>
        </p:nvSpPr>
        <p:spPr>
          <a:xfrm>
            <a:off x="1434960" y="860040"/>
            <a:ext cx="6875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довитый кустарник до 1м. Ягоды ярко-красные с горошину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0" descr="7233.jpg"/>
          <p:cNvPicPr/>
          <p:nvPr/>
        </p:nvPicPr>
        <p:blipFill>
          <a:blip r:embed="rId5"/>
          <a:stretch/>
        </p:blipFill>
        <p:spPr>
          <a:xfrm>
            <a:off x="3733920" y="3657600"/>
            <a:ext cx="4267080" cy="276228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6"/>
          <a:stretch/>
        </p:blipFill>
        <p:spPr>
          <a:xfrm>
            <a:off x="3797280" y="5565600"/>
            <a:ext cx="396252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15228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2" name="AutoShape 18"/>
          <p:cNvSpPr/>
          <p:nvPr/>
        </p:nvSpPr>
        <p:spPr>
          <a:xfrm>
            <a:off x="1371600" y="12240"/>
            <a:ext cx="7467480" cy="3618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пное животное-кочевник летом съедает до 27 кг зелени в день, бежит до 57 км/ч 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1" descr="151.jpg"/>
          <p:cNvPicPr/>
          <p:nvPr/>
        </p:nvPicPr>
        <p:blipFill>
          <a:blip r:embed="rId5"/>
          <a:stretch/>
        </p:blipFill>
        <p:spPr>
          <a:xfrm>
            <a:off x="4267080" y="388620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7" name="AutoShape 7">
              <a:hlinkClick r:id="rId2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AutoShape 9"/>
          <p:cNvSpPr/>
          <p:nvPr/>
        </p:nvSpPr>
        <p:spPr>
          <a:xfrm>
            <a:off x="1447920" y="11880"/>
            <a:ext cx="69102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го зверька ещё называют «векша». Его масса до 500г, длина тела 20-27см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8" descr="6660069221_32b15430ba_b.jpg"/>
          <p:cNvPicPr/>
          <p:nvPr/>
        </p:nvPicPr>
        <p:blipFill>
          <a:blip r:embed="rId3"/>
          <a:stretch/>
        </p:blipFill>
        <p:spPr>
          <a:xfrm>
            <a:off x="4267080" y="3962520"/>
            <a:ext cx="398808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3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0" name="AutoShape 18"/>
          <p:cNvSpPr/>
          <p:nvPr/>
        </p:nvSpPr>
        <p:spPr>
          <a:xfrm>
            <a:off x="1523880" y="313920"/>
            <a:ext cx="6791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 птичка – «морж» дала название детскому журналу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0" descr="394362557.jpg"/>
          <p:cNvPicPr/>
          <p:nvPr/>
        </p:nvPicPr>
        <p:blipFill>
          <a:blip r:embed="rId5"/>
          <a:stretch/>
        </p:blipFill>
        <p:spPr>
          <a:xfrm>
            <a:off x="3048120" y="3962520"/>
            <a:ext cx="3098520" cy="23241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2" descr="3727e9523ff8b3aaf1daad96555de9be.jpg"/>
          <p:cNvPicPr/>
          <p:nvPr/>
        </p:nvPicPr>
        <p:blipFill>
          <a:blip r:embed="rId6"/>
          <a:stretch/>
        </p:blipFill>
        <p:spPr>
          <a:xfrm>
            <a:off x="6172200" y="396252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4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1" name="AutoShape 19"/>
          <p:cNvSpPr/>
          <p:nvPr/>
        </p:nvSpPr>
        <p:spPr>
          <a:xfrm>
            <a:off x="1676520" y="-652680"/>
            <a:ext cx="6786360" cy="5487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здание из стекла и бетона построили в 1970г. В переводе с латинского – «круг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0" descr="22583.on_detail.jpeg"/>
          <p:cNvPicPr/>
          <p:nvPr/>
        </p:nvPicPr>
        <p:blipFill>
          <a:blip r:embed="rId5"/>
          <a:stretch/>
        </p:blipFill>
        <p:spPr>
          <a:xfrm>
            <a:off x="3581280" y="3962520"/>
            <a:ext cx="484056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58" name="AutoShape 7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60" name="AutoShape 10"/>
          <p:cNvSpPr/>
          <p:nvPr/>
        </p:nvSpPr>
        <p:spPr>
          <a:xfrm>
            <a:off x="1676520" y="389880"/>
            <a:ext cx="67626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й памятник в Перми связан с солеварением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1" descr="1219013596_-20.jpg"/>
          <p:cNvPicPr/>
          <p:nvPr/>
        </p:nvPicPr>
        <p:blipFill>
          <a:blip r:embed="rId5"/>
          <a:stretch/>
        </p:blipFill>
        <p:spPr>
          <a:xfrm>
            <a:off x="4952880" y="3124080"/>
            <a:ext cx="2590920" cy="3353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12" descr=""/>
          <p:cNvPicPr/>
          <p:nvPr/>
        </p:nvPicPr>
        <p:blipFill>
          <a:blip r:embed="rId6"/>
          <a:stretch/>
        </p:blipFill>
        <p:spPr>
          <a:xfrm>
            <a:off x="4346640" y="5108400"/>
            <a:ext cx="4048200" cy="14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>
            <a:hlinkClick r:id="rId1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1">
            <a:hlinkClick r:id="rId2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4519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1"/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1"/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1"/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1"/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1"/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1"/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1"/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1"/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1"/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1"/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1"/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1"/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1"/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0"/>
          <p:cNvSpPr txBox="1"/>
          <p:nvPr/>
        </p:nvSpPr>
        <p:spPr>
          <a:xfrm>
            <a:off x="457200" y="457200"/>
            <a:ext cx="1190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ГР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5" name="AutoShape 55">
            <a:hlinkClick r:id="rId3" action="ppaction://hlinksldjump"/>
          </p:cNvPr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6">
            <a:hlinkClick r:id="rId4" action="ppaction://hlinksldjump"/>
          </p:cNvPr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7">
            <a:hlinkClick r:id="rId5" action="ppaction://hlinksldjump"/>
          </p:cNvPr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8">
            <a:hlinkClick r:id="rId6" action="ppaction://hlinksldjump"/>
          </p:cNvPr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365760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6"/>
          <p:cNvSpPr/>
          <p:nvPr/>
        </p:nvSpPr>
        <p:spPr>
          <a:xfrm>
            <a:off x="304920" y="2593800"/>
            <a:ext cx="268596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о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7"/>
          <p:cNvSpPr/>
          <p:nvPr/>
        </p:nvSpPr>
        <p:spPr>
          <a:xfrm>
            <a:off x="304920" y="1297800"/>
            <a:ext cx="276228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ты и циф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8"/>
          <p:cNvSpPr/>
          <p:nvPr/>
        </p:nvSpPr>
        <p:spPr>
          <a:xfrm>
            <a:off x="304920" y="3888720"/>
            <a:ext cx="27590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тения и живот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9"/>
          <p:cNvSpPr/>
          <p:nvPr/>
        </p:nvSpPr>
        <p:spPr>
          <a:xfrm>
            <a:off x="228600" y="5260320"/>
            <a:ext cx="28814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стоприме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ель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7" action="ppaction://hlinksldjump"/>
          </p:cNvPr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8" action="ppaction://hlinksldjump"/>
          </p:cNvPr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9" action="ppaction://hlinksldjump"/>
          </p:cNvPr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10" action="ppaction://hlinksldjump"/>
          </p:cNvPr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4">
            <a:hlinkClick r:id="rId11" action="ppaction://hlinksldjump"/>
          </p:cNvPr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5">
            <a:hlinkClick r:id="rId12" action="ppaction://hlinksldjump"/>
          </p:cNvPr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7">
            <a:hlinkClick r:id="rId13" action="ppaction://hlinksldjump"/>
          </p:cNvPr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8">
            <a:hlinkClick r:id="rId14" action="ppaction://hlinksldjump"/>
          </p:cNvPr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9">
            <a:hlinkClick r:id="rId15" action="ppaction://hlinksldjump"/>
          </p:cNvPr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0">
            <a:hlinkClick r:id="rId16" action="ppaction://hlinksldjump"/>
          </p:cNvPr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1">
            <a:hlinkClick r:id="rId17" action="ppaction://hlinksldjump"/>
          </p:cNvPr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2">
            <a:hlinkClick r:id="rId18" action="ppaction://hlinksldjump"/>
          </p:cNvPr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3">
            <a:hlinkClick r:id="rId19" action="ppaction://hlinksldjump"/>
          </p:cNvPr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4">
            <a:hlinkClick r:id="rId20" action="ppaction://hlinksldjump"/>
          </p:cNvPr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5">
            <a:hlinkClick r:id="rId21" action="ppaction://hlinksldjump"/>
          </p:cNvPr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6"/>
          <p:cNvSpPr txBox="1"/>
          <p:nvPr/>
        </p:nvSpPr>
        <p:spPr>
          <a:xfrm>
            <a:off x="1828800" y="2286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«Пермский край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70" name="AutoShape 19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20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72" name="AutoShape 24"/>
          <p:cNvSpPr/>
          <p:nvPr/>
        </p:nvSpPr>
        <p:spPr>
          <a:xfrm>
            <a:off x="1600200" y="11880"/>
            <a:ext cx="706428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сть какого композитора назван театр оперы и балета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5"/>
          <p:cNvSpPr/>
          <p:nvPr/>
        </p:nvSpPr>
        <p:spPr>
          <a:xfrm>
            <a:off x="2666880" y="4481280"/>
            <a:ext cx="64771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.И.Чайковски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2" name="AutoShape 19"/>
          <p:cNvSpPr/>
          <p:nvPr/>
        </p:nvSpPr>
        <p:spPr>
          <a:xfrm>
            <a:off x="1447920" y="389880"/>
            <a:ext cx="6883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длинная подводная  пещера в гипса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3200400" y="4423680"/>
            <a:ext cx="541008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рдинск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ещер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1" name="AutoShape 19"/>
          <p:cNvSpPr/>
          <p:nvPr/>
        </p:nvSpPr>
        <p:spPr>
          <a:xfrm>
            <a:off x="1371600" y="311400"/>
            <a:ext cx="731520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высокая гора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2" descr="Tulymskiy-kamen.jpg"/>
          <p:cNvPicPr/>
          <p:nvPr/>
        </p:nvPicPr>
        <p:blipFill>
          <a:blip r:embed="rId5"/>
          <a:stretch/>
        </p:blipFill>
        <p:spPr>
          <a:xfrm>
            <a:off x="3505320" y="3200400"/>
            <a:ext cx="4852800" cy="32338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3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5499000" cy="865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4"/>
          <p:cNvSpPr/>
          <p:nvPr/>
        </p:nvSpPr>
        <p:spPr>
          <a:xfrm>
            <a:off x="5649480" y="3276720"/>
            <a:ext cx="18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69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304920" y="60948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xic.ru/i/60L02861t8h2n66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ото Кунгу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28600" y="99072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s.wikimapia.org/p/00/05/09/04/18_big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- фото города Черды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228600" y="13716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prv3.lori-images.net/gerb-goroda-solikamska-0005708391-preview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ерб Соликамс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8600" y="160020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1.bp.blogspot.com/-fWNE1i9pKNU/Tej55vM9zvI/AAAAAAAAAVU/S88mHhwkfOg/s1600/IMG_4796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ород Чайковск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228600" y="21337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lopp.ru/uploads/posts/2008-08/1219013596_-2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ник «Пермяк - солёные уши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228600" y="24382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4.tourbina.ru/photos.4/8/7/0/4/5/1454078/big.photo/Tulymskiy-kamen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улымский каме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228600" y="297180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img.localway.ru/scaled/guide/268/596971/820x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еатр оперы и бале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28600" y="33526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farm8.staticflickr.com/7143/6660069221_32b15430ba_b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л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28600" y="373392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florapedia.ru/media/pic_full/2/7233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волчье лык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2"/>
          <p:cNvSpPr/>
          <p:nvPr/>
        </p:nvSpPr>
        <p:spPr>
          <a:xfrm>
            <a:off x="304920" y="4038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www.fiftydegreesnorth.com/images/media/full/151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лос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3"/>
          <p:cNvSpPr/>
          <p:nvPr/>
        </p:nvSpPr>
        <p:spPr>
          <a:xfrm>
            <a:off x="304920" y="44197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hotos.streamphoto.ru/e/b/9/3727e9523ff8b3aaf1daad96555de9be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журнал «Оляпк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"/>
          <p:cNvSpPr/>
          <p:nvPr/>
        </p:nvSpPr>
        <p:spPr>
          <a:xfrm>
            <a:off x="228600" y="472428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://im3-tu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.yandex.net/i?id=800b915e020a71abba50531f81ea9292&amp;n=33&amp;h=215&amp;w=38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медвед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304920" y="518148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kartiny.ucoz.ru/_ph/100/39436255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ляп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5"/>
          <p:cNvSpPr/>
          <p:nvPr/>
        </p:nvSpPr>
        <p:spPr>
          <a:xfrm>
            <a:off x="228600" y="5410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am1.dlstatic.ru/company/panoram/22583.on_detail.jpe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цир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5"/>
          <p:cNvSpPr/>
          <p:nvPr/>
        </p:nvSpPr>
        <p:spPr>
          <a:xfrm>
            <a:off x="2829240" y="1522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- ресур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4343400" y="541008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219320" y="1217160"/>
            <a:ext cx="701028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дату образования Пермского кр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306"/>
          <p:cNvPicPr/>
          <p:nvPr/>
        </p:nvPicPr>
        <p:blipFill>
          <a:blip r:embed="rId2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306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9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9" name="Oval 17"/>
          <p:cNvSpPr/>
          <p:nvPr/>
        </p:nvSpPr>
        <p:spPr>
          <a:xfrm>
            <a:off x="3505320" y="5008320"/>
            <a:ext cx="3960720" cy="151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 декабря 2005 год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1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6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07" name="AutoShape 18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WordArt 19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9" name="AutoShape 21"/>
          <p:cNvSpPr/>
          <p:nvPr/>
        </p:nvSpPr>
        <p:spPr>
          <a:xfrm>
            <a:off x="1530360" y="1233720"/>
            <a:ext cx="67723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ный код наше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59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1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9" name="AutoShape 18"/>
          <p:cNvSpPr/>
          <p:nvPr/>
        </p:nvSpPr>
        <p:spPr>
          <a:xfrm>
            <a:off x="1641600" y="868320"/>
            <a:ext cx="672444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сколько районов разделена Пермь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886200" y="503100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 район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2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9" name="AutoShape 18"/>
          <p:cNvSpPr/>
          <p:nvPr/>
        </p:nvSpPr>
        <p:spPr>
          <a:xfrm>
            <a:off x="1676520" y="11880"/>
            <a:ext cx="677232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у равна протяжённость Перми вдоль реки Камы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0 к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9"/>
          <p:cNvSpPr/>
          <p:nvPr/>
        </p:nvSpPr>
        <p:spPr>
          <a:xfrm>
            <a:off x="3657600" y="4423680"/>
            <a:ext cx="39607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в 1723 году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447920" y="533520"/>
            <a:ext cx="678168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38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0" name="AutoShape 18"/>
          <p:cNvSpPr/>
          <p:nvPr/>
        </p:nvSpPr>
        <p:spPr>
          <a:xfrm>
            <a:off x="1981080" y="615960"/>
            <a:ext cx="67327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аком году основана Пермь?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47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1219320" y="239040"/>
            <a:ext cx="7696080" cy="3212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род основан в 1648 на слиянии рек Сылвы, Ирени и Шаквы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1" descr="60L02861t8h2n667.jpg"/>
          <p:cNvPicPr/>
          <p:nvPr/>
        </p:nvPicPr>
        <p:blipFill>
          <a:blip r:embed="rId5"/>
          <a:stretch/>
        </p:blipFill>
        <p:spPr>
          <a:xfrm>
            <a:off x="3581280" y="3429000"/>
            <a:ext cx="4496040" cy="29955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2" descr=""/>
          <p:cNvPicPr/>
          <p:nvPr/>
        </p:nvPicPr>
        <p:blipFill>
          <a:blip r:embed="rId6"/>
          <a:stretch/>
        </p:blipFill>
        <p:spPr>
          <a:xfrm>
            <a:off x="5559480" y="5486400"/>
            <a:ext cx="24508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1"/>
          <p:cNvSpPr/>
          <p:nvPr/>
        </p:nvSpPr>
        <p:spPr>
          <a:xfrm>
            <a:off x="4572000" y="53341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5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0" name="AutoShape 19"/>
          <p:cNvSpPr/>
          <p:nvPr/>
        </p:nvSpPr>
        <p:spPr>
          <a:xfrm>
            <a:off x="1600200" y="389880"/>
            <a:ext cx="6767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ый молодой город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9" descr="IMG_4796.JPG"/>
          <p:cNvPicPr/>
          <p:nvPr/>
        </p:nvPicPr>
        <p:blipFill>
          <a:blip r:embed="rId5"/>
          <a:stretch/>
        </p:blipFill>
        <p:spPr>
          <a:xfrm>
            <a:off x="36576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0" descr=""/>
          <p:cNvPicPr/>
          <p:nvPr/>
        </p:nvPicPr>
        <p:blipFill>
          <a:blip r:embed="rId6"/>
          <a:stretch/>
        </p:blipFill>
        <p:spPr>
          <a:xfrm>
            <a:off x="4559400" y="5638680"/>
            <a:ext cx="367020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02-27T13:06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